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31E-FCD6-4992-A899-CEBAE503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670-62E4-4E9D-9189-1AF0CA06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EFD-7A82-48AF-BD25-2351C97F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91D4-CF17-4180-BC40-A2884880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35C-814E-4E39-93F8-413011A7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D93-C556-4FCD-87F2-D5AC4032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846-4F1A-4DF9-A255-D735A0D6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E9B-D684-4583-AD81-E7117938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8B7-7395-42BD-BE0E-A6242C8A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6354-B046-4891-9026-F313C6DB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491-586F-47DE-AF8A-2384DAC5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889-BA66-4345-AC19-814645A0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3772-F3BF-418C-BAC2-111D6B0A20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72120" y="2951640"/>
            <a:ext cx="212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1.1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一次函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一章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981520" y="3970440"/>
            <a:ext cx="287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一次函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圆角矩形 31"/>
          <p:cNvSpPr/>
          <p:nvPr/>
        </p:nvSpPr>
        <p:spPr>
          <a:xfrm>
            <a:off x="285840" y="64296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1241280" y="10890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2515680" y="2235240"/>
            <a:ext cx="43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何值时，这个函数是正比例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"/>
          <p:cNvSpPr/>
          <p:nvPr/>
        </p:nvSpPr>
        <p:spPr>
          <a:xfrm>
            <a:off x="2461320" y="1754280"/>
            <a:ext cx="41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何值时，这个函数是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801800" y="2778120"/>
            <a:ext cx="31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由题意可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927080" y="3417840"/>
            <a:ext cx="31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解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785960" y="4124160"/>
            <a:ext cx="31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由题意可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004840" y="4765680"/>
            <a:ext cx="43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-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解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圆角矩形 31"/>
          <p:cNvSpPr/>
          <p:nvPr/>
        </p:nvSpPr>
        <p:spPr>
          <a:xfrm>
            <a:off x="428760" y="930240"/>
            <a:ext cx="11080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议一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4"/>
          <p:cNvGrpSpPr/>
          <p:nvPr/>
        </p:nvGrpSpPr>
        <p:grpSpPr>
          <a:xfrm>
            <a:off x="998640" y="1760400"/>
            <a:ext cx="6681600" cy="1488600"/>
            <a:chOff x="998640" y="1760400"/>
            <a:chExt cx="6681600" cy="1488600"/>
          </a:xfrm>
        </p:grpSpPr>
        <p:pic>
          <p:nvPicPr>
            <p:cNvPr id="155" name="Object 6" descr=""/>
            <p:cNvPicPr/>
            <p:nvPr/>
          </p:nvPicPr>
          <p:blipFill>
            <a:blip r:embed="rId1"/>
            <a:stretch/>
          </p:blipFill>
          <p:spPr>
            <a:xfrm>
              <a:off x="4071600" y="1760400"/>
              <a:ext cx="3309840" cy="6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8"/>
            <p:cNvSpPr/>
            <p:nvPr/>
          </p:nvSpPr>
          <p:spPr>
            <a:xfrm>
              <a:off x="998640" y="2057760"/>
              <a:ext cx="668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                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别为何值时，该函数是一次函数？正比例函数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3"/>
            <p:cNvSpPr/>
            <p:nvPr/>
          </p:nvSpPr>
          <p:spPr>
            <a:xfrm>
              <a:off x="1935360" y="1892880"/>
              <a:ext cx="202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关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函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31800" y="105732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科学研究发现，海平面以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 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内，海拔每升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气温下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 ℃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时刻，若甲地地面气温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 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设高出地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处的气温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而变化的函数表达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若有一架飞机飞过甲地上空，机舱内仪表显示飞机外面的温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4 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飞机离地面的高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6147"/>
          <p:cNvGrpSpPr/>
          <p:nvPr/>
        </p:nvGrpSpPr>
        <p:grpSpPr>
          <a:xfrm>
            <a:off x="325440" y="246240"/>
            <a:ext cx="2516400" cy="808200"/>
            <a:chOff x="325440" y="246240"/>
            <a:chExt cx="2516400" cy="808200"/>
          </a:xfrm>
        </p:grpSpPr>
        <p:sp>
          <p:nvSpPr>
            <p:cNvPr id="161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6151"/>
            <p:cNvSpPr/>
            <p:nvPr/>
          </p:nvSpPr>
          <p:spPr>
            <a:xfrm>
              <a:off x="2306160" y="520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一次函数的简单应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816120" y="860400"/>
            <a:ext cx="76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 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高出地面的高度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是自变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高出地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处的气温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℃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是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它们之间的数量关系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甲地高出地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处的气温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地面气温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下降的气温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20 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-34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0 - 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-3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解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此时飞机离地面的高度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 k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468360" y="57960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边长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等边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边上的高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吗？如果是，请指出相应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359400" y="2165400"/>
            <a:ext cx="2111400" cy="202392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5"/>
          <p:cNvSpPr/>
          <p:nvPr/>
        </p:nvSpPr>
        <p:spPr>
          <a:xfrm>
            <a:off x="1019160" y="2381400"/>
            <a:ext cx="479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 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边上的高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也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边上的中线，所以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2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由勾股定理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对象 6" descr=""/>
          <p:cNvPicPr/>
          <p:nvPr/>
        </p:nvPicPr>
        <p:blipFill>
          <a:blip r:embed="rId2"/>
          <a:stretch/>
        </p:blipFill>
        <p:spPr>
          <a:xfrm>
            <a:off x="1092240" y="4118040"/>
            <a:ext cx="4895640" cy="790560"/>
          </a:xfrm>
          <a:prstGeom prst="rect">
            <a:avLst/>
          </a:prstGeom>
          <a:ln w="0">
            <a:noFill/>
          </a:ln>
        </p:spPr>
      </p:pic>
      <p:grpSp>
        <p:nvGrpSpPr>
          <p:cNvPr id="171" name="组合 15"/>
          <p:cNvGrpSpPr/>
          <p:nvPr/>
        </p:nvGrpSpPr>
        <p:grpSpPr>
          <a:xfrm>
            <a:off x="1025640" y="5010120"/>
            <a:ext cx="4789440" cy="741240"/>
            <a:chOff x="1025640" y="5010120"/>
            <a:chExt cx="4789440" cy="741240"/>
          </a:xfrm>
        </p:grpSpPr>
        <p:sp>
          <p:nvSpPr>
            <p:cNvPr id="172" name="文本框 7"/>
            <p:cNvSpPr/>
            <p:nvPr/>
          </p:nvSpPr>
          <p:spPr>
            <a:xfrm>
              <a:off x="1025640" y="5010120"/>
              <a:ext cx="47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对象 8" descr=""/>
            <p:cNvPicPr/>
            <p:nvPr/>
          </p:nvPicPr>
          <p:blipFill>
            <a:blip r:embed="rId3"/>
            <a:stretch/>
          </p:blipFill>
          <p:spPr>
            <a:xfrm>
              <a:off x="1517760" y="5010120"/>
              <a:ext cx="1045440" cy="74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组合 14"/>
          <p:cNvGrpSpPr/>
          <p:nvPr/>
        </p:nvGrpSpPr>
        <p:grpSpPr>
          <a:xfrm>
            <a:off x="1014480" y="5732640"/>
            <a:ext cx="4978080" cy="731520"/>
            <a:chOff x="1014480" y="5732640"/>
            <a:chExt cx="4978080" cy="731520"/>
          </a:xfrm>
        </p:grpSpPr>
        <p:sp>
          <p:nvSpPr>
            <p:cNvPr id="175" name="文本框 9"/>
            <p:cNvSpPr/>
            <p:nvPr/>
          </p:nvSpPr>
          <p:spPr>
            <a:xfrm>
              <a:off x="1014480" y="5751360"/>
              <a:ext cx="478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所以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h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是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的一次函数，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对象 10" descr=""/>
            <p:cNvPicPr/>
            <p:nvPr/>
          </p:nvPicPr>
          <p:blipFill>
            <a:blip r:embed="rId4"/>
            <a:stretch/>
          </p:blipFill>
          <p:spPr>
            <a:xfrm>
              <a:off x="4488480" y="5732640"/>
              <a:ext cx="1504080" cy="73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对象 13" descr=""/>
          <p:cNvPicPr/>
          <p:nvPr/>
        </p:nvPicPr>
        <p:blipFill>
          <a:blip r:embed="rId5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4"/>
          <p:cNvGrpSpPr/>
          <p:nvPr/>
        </p:nvGrpSpPr>
        <p:grpSpPr>
          <a:xfrm>
            <a:off x="1017360" y="779400"/>
            <a:ext cx="3708360" cy="479160"/>
            <a:chOff x="1017360" y="779400"/>
            <a:chExt cx="3708360" cy="479160"/>
          </a:xfrm>
        </p:grpSpPr>
        <p:sp>
          <p:nvSpPr>
            <p:cNvPr id="179" name="Rectangle 4"/>
            <p:cNvSpPr/>
            <p:nvPr/>
          </p:nvSpPr>
          <p:spPr>
            <a:xfrm>
              <a:off x="1017360" y="798840"/>
              <a:ext cx="37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=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时，求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对象 3" descr=""/>
            <p:cNvPicPr/>
            <p:nvPr/>
          </p:nvPicPr>
          <p:blipFill>
            <a:blip r:embed="rId1"/>
            <a:stretch/>
          </p:blipFill>
          <p:spPr>
            <a:xfrm>
              <a:off x="2597040" y="779400"/>
              <a:ext cx="477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Rectangle 4"/>
          <p:cNvSpPr/>
          <p:nvPr/>
        </p:nvSpPr>
        <p:spPr>
          <a:xfrm>
            <a:off x="822240" y="1510560"/>
            <a:ext cx="71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面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次函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11"/>
          <p:cNvGrpSpPr/>
          <p:nvPr/>
        </p:nvGrpSpPr>
        <p:grpSpPr>
          <a:xfrm>
            <a:off x="1306440" y="2309760"/>
            <a:ext cx="4790520" cy="901800"/>
            <a:chOff x="1306440" y="2309760"/>
            <a:chExt cx="4790520" cy="901800"/>
          </a:xfrm>
        </p:grpSpPr>
        <p:sp>
          <p:nvSpPr>
            <p:cNvPr id="183" name="文本框 5"/>
            <p:cNvSpPr/>
            <p:nvPr/>
          </p:nvSpPr>
          <p:spPr>
            <a:xfrm>
              <a:off x="1306440" y="2381400"/>
              <a:ext cx="479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组合 2"/>
            <p:cNvGrpSpPr/>
            <p:nvPr/>
          </p:nvGrpSpPr>
          <p:grpSpPr>
            <a:xfrm>
              <a:off x="1417680" y="2534400"/>
              <a:ext cx="4628880" cy="478440"/>
              <a:chOff x="1417680" y="2534400"/>
              <a:chExt cx="4628880" cy="478440"/>
            </a:xfrm>
          </p:grpSpPr>
          <p:sp>
            <p:nvSpPr>
              <p:cNvPr id="185" name="Rectangle 4"/>
              <p:cNvSpPr/>
              <p:nvPr/>
            </p:nvSpPr>
            <p:spPr>
              <a:xfrm>
                <a:off x="1417680" y="2553120"/>
                <a:ext cx="462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95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    </a:t>
                </a: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（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2</a:t>
                </a: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）当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h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=      </a:t>
                </a: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时，有                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6" name="对象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6200" y="2534400"/>
                <a:ext cx="477360" cy="47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7" name="对象 9" descr=""/>
            <p:cNvPicPr/>
            <p:nvPr/>
          </p:nvPicPr>
          <p:blipFill>
            <a:blip r:embed="rId3"/>
            <a:stretch/>
          </p:blipFill>
          <p:spPr>
            <a:xfrm>
              <a:off x="4515480" y="2309760"/>
              <a:ext cx="1433160" cy="9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Rectangle 4"/>
          <p:cNvSpPr/>
          <p:nvPr/>
        </p:nvSpPr>
        <p:spPr>
          <a:xfrm>
            <a:off x="1560240" y="31993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26"/>
          <p:cNvGrpSpPr/>
          <p:nvPr/>
        </p:nvGrpSpPr>
        <p:grpSpPr>
          <a:xfrm>
            <a:off x="1421640" y="3730680"/>
            <a:ext cx="6491520" cy="901800"/>
            <a:chOff x="1421640" y="3730680"/>
            <a:chExt cx="6491520" cy="901800"/>
          </a:xfrm>
        </p:grpSpPr>
        <p:sp>
          <p:nvSpPr>
            <p:cNvPr id="190" name="Rectangle 4"/>
            <p:cNvSpPr/>
            <p:nvPr/>
          </p:nvSpPr>
          <p:spPr>
            <a:xfrm>
              <a:off x="1421640" y="398484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因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对象 21" descr=""/>
            <p:cNvPicPr/>
            <p:nvPr/>
          </p:nvPicPr>
          <p:blipFill>
            <a:blip r:embed="rId4"/>
            <a:stretch/>
          </p:blipFill>
          <p:spPr>
            <a:xfrm>
              <a:off x="3083040" y="3730680"/>
              <a:ext cx="483012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组合 27"/>
          <p:cNvGrpSpPr/>
          <p:nvPr/>
        </p:nvGrpSpPr>
        <p:grpSpPr>
          <a:xfrm>
            <a:off x="2226600" y="4683240"/>
            <a:ext cx="4446360" cy="903240"/>
            <a:chOff x="2226600" y="4683240"/>
            <a:chExt cx="4446360" cy="903240"/>
          </a:xfrm>
        </p:grpSpPr>
        <p:sp>
          <p:nvSpPr>
            <p:cNvPr id="193" name="Rectangle 4"/>
            <p:cNvSpPr/>
            <p:nvPr/>
          </p:nvSpPr>
          <p:spPr>
            <a:xfrm>
              <a:off x="2226600" y="4943880"/>
              <a:ext cx="444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即                      所以，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S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不是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的一次函数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对象 24" descr=""/>
            <p:cNvPicPr/>
            <p:nvPr/>
          </p:nvPicPr>
          <p:blipFill>
            <a:blip r:embed="rId5"/>
            <a:stretch/>
          </p:blipFill>
          <p:spPr>
            <a:xfrm>
              <a:off x="2294640" y="4683240"/>
              <a:ext cx="1459800" cy="903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圆角矩形 31"/>
          <p:cNvSpPr/>
          <p:nvPr/>
        </p:nvSpPr>
        <p:spPr>
          <a:xfrm>
            <a:off x="428760" y="714240"/>
            <a:ext cx="10872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647640" y="1609560"/>
            <a:ext cx="73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等腰三角形的周长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底边长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，腰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c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底边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c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是什么？这个函数是一次函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766160" y="35010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0-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是一次函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60520" y="819000"/>
            <a:ext cx="7821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说法正确的是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是正比例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比例函数不是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是正比例函数就不是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比例函数是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772080" y="819000"/>
            <a:ext cx="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755640" y="36370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8+0.0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③y=1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     , ④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是一次函数的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Object 3" descr=""/>
          <p:cNvPicPr/>
          <p:nvPr/>
        </p:nvPicPr>
        <p:blipFill>
          <a:blip r:embed="rId1"/>
          <a:stretch/>
        </p:blipFill>
        <p:spPr>
          <a:xfrm>
            <a:off x="5996160" y="3471840"/>
            <a:ext cx="374400" cy="969840"/>
          </a:xfrm>
          <a:prstGeom prst="rect">
            <a:avLst/>
          </a:prstGeom>
          <a:ln w="0">
            <a:noFill/>
          </a:ln>
        </p:spPr>
      </p:pic>
      <p:pic>
        <p:nvPicPr>
          <p:cNvPr id="203" name="Object 4" descr=""/>
          <p:cNvPicPr/>
          <p:nvPr/>
        </p:nvPicPr>
        <p:blipFill>
          <a:blip r:embed="rId2"/>
          <a:stretch/>
        </p:blipFill>
        <p:spPr>
          <a:xfrm>
            <a:off x="7299360" y="3666960"/>
            <a:ext cx="650880" cy="720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1"/>
          <p:cNvSpPr/>
          <p:nvPr/>
        </p:nvSpPr>
        <p:spPr>
          <a:xfrm>
            <a:off x="3706920" y="4427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3170160" y="43164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①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838080" y="560520"/>
            <a:ext cx="7010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成正比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是什么函数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836720" y="441972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300320" y="4881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  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一次函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43120" y="30528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1)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设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(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812960" y="35100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把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,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代入上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得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(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1811160" y="39672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1300320" y="54910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)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559320" y="56214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×2.5 - 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695160" y="288612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次函数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组合 12"/>
          <p:cNvGrpSpPr/>
          <p:nvPr/>
        </p:nvGrpSpPr>
        <p:grpSpPr>
          <a:xfrm>
            <a:off x="2128680" y="1503360"/>
            <a:ext cx="3238560" cy="3371760"/>
            <a:chOff x="2128680" y="1503360"/>
            <a:chExt cx="3238560" cy="3371760"/>
          </a:xfrm>
        </p:grpSpPr>
        <p:grpSp>
          <p:nvGrpSpPr>
            <p:cNvPr id="217" name="组合 16"/>
            <p:cNvGrpSpPr/>
            <p:nvPr/>
          </p:nvGrpSpPr>
          <p:grpSpPr>
            <a:xfrm>
              <a:off x="2128680" y="1503360"/>
              <a:ext cx="2622600" cy="3371760"/>
              <a:chOff x="2128680" y="1503360"/>
              <a:chExt cx="2622600" cy="3371760"/>
            </a:xfrm>
          </p:grpSpPr>
          <p:sp>
            <p:nvSpPr>
              <p:cNvPr id="218" name="Text Box 4"/>
              <p:cNvSpPr/>
              <p:nvPr/>
            </p:nvSpPr>
            <p:spPr>
              <a:xfrm>
                <a:off x="2414160" y="1849320"/>
                <a:ext cx="233712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一次函数的概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28680" y="1503360"/>
                <a:ext cx="65088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Text Box 4"/>
            <p:cNvSpPr/>
            <p:nvPr/>
          </p:nvSpPr>
          <p:spPr>
            <a:xfrm>
              <a:off x="2434320" y="3968640"/>
              <a:ext cx="293292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次函数的简单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1"/>
          <p:cNvGrpSpPr/>
          <p:nvPr/>
        </p:nvGrpSpPr>
        <p:grpSpPr>
          <a:xfrm>
            <a:off x="4654440" y="1203480"/>
            <a:ext cx="2946600" cy="1604880"/>
            <a:chOff x="4654440" y="1203480"/>
            <a:chExt cx="2946600" cy="1604880"/>
          </a:xfrm>
        </p:grpSpPr>
        <p:grpSp>
          <p:nvGrpSpPr>
            <p:cNvPr id="222" name="组合 16"/>
            <p:cNvGrpSpPr/>
            <p:nvPr/>
          </p:nvGrpSpPr>
          <p:grpSpPr>
            <a:xfrm>
              <a:off x="4654440" y="1203480"/>
              <a:ext cx="2622600" cy="1604880"/>
              <a:chOff x="4654440" y="1203480"/>
              <a:chExt cx="2622600" cy="1604880"/>
            </a:xfrm>
          </p:grpSpPr>
          <p:sp>
            <p:nvSpPr>
              <p:cNvPr id="223" name="Text Box 4"/>
              <p:cNvSpPr/>
              <p:nvPr/>
            </p:nvSpPr>
            <p:spPr>
              <a:xfrm>
                <a:off x="4939920" y="1203480"/>
                <a:ext cx="233712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一次函数与正比例函数的关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4" name="Object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4440" y="1339200"/>
                <a:ext cx="650880" cy="1469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Text Box 4"/>
            <p:cNvSpPr/>
            <p:nvPr/>
          </p:nvSpPr>
          <p:spPr>
            <a:xfrm>
              <a:off x="4960080" y="2341800"/>
              <a:ext cx="264096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次函数的解析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一次函数的概念，明确一次函数与正比例函数之间的联系与区别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会用直接列式法写出一次函数的解析式，并进行相关的计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31"/>
          <p:cNvSpPr/>
          <p:nvPr/>
        </p:nvSpPr>
        <p:spPr>
          <a:xfrm>
            <a:off x="500040" y="90792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景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" descr=""/>
          <p:cNvPicPr/>
          <p:nvPr/>
        </p:nvPicPr>
        <p:blipFill>
          <a:blip r:embed="rId1"/>
          <a:stretch/>
        </p:blipFill>
        <p:spPr>
          <a:xfrm>
            <a:off x="2330280" y="1238400"/>
            <a:ext cx="4483440" cy="3822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1392120" y="5133960"/>
            <a:ext cx="678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能写出通话费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通话时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间的函数关系式吗？它是正比例函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6147"/>
          <p:cNvGrpSpPr/>
          <p:nvPr/>
        </p:nvGrpSpPr>
        <p:grpSpPr>
          <a:xfrm>
            <a:off x="325440" y="246240"/>
            <a:ext cx="2232360" cy="808200"/>
            <a:chOff x="325440" y="246240"/>
            <a:chExt cx="2232360" cy="808200"/>
          </a:xfrm>
        </p:grpSpPr>
        <p:sp>
          <p:nvSpPr>
            <p:cNvPr id="85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6151"/>
            <p:cNvSpPr/>
            <p:nvPr/>
          </p:nvSpPr>
          <p:spPr>
            <a:xfrm>
              <a:off x="1950120" y="520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一次函数的概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圆角矩形 31"/>
          <p:cNvSpPr/>
          <p:nvPr/>
        </p:nvSpPr>
        <p:spPr>
          <a:xfrm>
            <a:off x="357120" y="1216080"/>
            <a:ext cx="142884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873000" y="2281320"/>
            <a:ext cx="758988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有人发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~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蟋蟀每分钟鸣叫次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温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有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大约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倍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057400" y="358920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7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7600" y="3576600"/>
            <a:ext cx="16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0≤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≤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952560" y="1716120"/>
            <a:ext cx="5435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下列各题的函数关系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60400" y="4046400"/>
            <a:ext cx="7674120" cy="13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某地电费的单价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W·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 请用表达式表示电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与所用电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W·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之间的函数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986120" y="5299200"/>
            <a:ext cx="15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0.8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841320" y="1282680"/>
            <a:ext cx="75772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某城市的市内电话的月收费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包括：月租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拨打电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的计时费（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收取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952560" y="730080"/>
            <a:ext cx="8191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下列各题的函数关系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131920" y="2693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 =0.1</a:t>
            </a:r>
            <a:r>
              <a:rPr b="0" i="1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 +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809880" y="2693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（</a:t>
            </a:r>
            <a:r>
              <a:rPr b="0" i="1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≥ 0</a:t>
            </a:r>
            <a:r>
              <a:rPr b="0" lang="zh-CN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770040" y="3382920"/>
            <a:ext cx="795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把一个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c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c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长方形的长减少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 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宽不变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长方形的面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变化而变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257200" y="468792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 = -5</a:t>
            </a:r>
            <a:r>
              <a:rPr b="0" i="1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 +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04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圆角矩形 31"/>
          <p:cNvSpPr/>
          <p:nvPr/>
        </p:nvSpPr>
        <p:spPr>
          <a:xfrm>
            <a:off x="357120" y="71424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察与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09480" y="1457280"/>
            <a:ext cx="62485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述函数有什么共同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447920" y="237168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447920" y="298116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 0.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447920" y="36669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0.0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1635480" y="4352760"/>
            <a:ext cx="23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 -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椭圆 33"/>
          <p:cNvSpPr/>
          <p:nvPr/>
        </p:nvSpPr>
        <p:spPr>
          <a:xfrm>
            <a:off x="3886200" y="1371600"/>
            <a:ext cx="762120" cy="3124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32"/>
          <p:cNvSpPr/>
          <p:nvPr/>
        </p:nvSpPr>
        <p:spPr>
          <a:xfrm>
            <a:off x="5257800" y="1523880"/>
            <a:ext cx="533520" cy="29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31"/>
          <p:cNvSpPr/>
          <p:nvPr/>
        </p:nvSpPr>
        <p:spPr>
          <a:xfrm>
            <a:off x="4648320" y="1447920"/>
            <a:ext cx="304560" cy="29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30"/>
          <p:cNvSpPr/>
          <p:nvPr/>
        </p:nvSpPr>
        <p:spPr>
          <a:xfrm>
            <a:off x="3200400" y="1523880"/>
            <a:ext cx="380880" cy="2895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9"/>
          <p:cNvSpPr/>
          <p:nvPr/>
        </p:nvSpPr>
        <p:spPr>
          <a:xfrm flipH="1">
            <a:off x="3881520" y="4191120"/>
            <a:ext cx="304560" cy="9144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2"/>
          <p:cNvSpPr/>
          <p:nvPr/>
        </p:nvSpPr>
        <p:spPr>
          <a:xfrm flipH="1">
            <a:off x="2437920" y="4495680"/>
            <a:ext cx="884520" cy="76212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3"/>
          <p:cNvSpPr/>
          <p:nvPr/>
        </p:nvSpPr>
        <p:spPr>
          <a:xfrm>
            <a:off x="4800600" y="4495680"/>
            <a:ext cx="46080" cy="685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4"/>
          <p:cNvSpPr/>
          <p:nvPr/>
        </p:nvSpPr>
        <p:spPr>
          <a:xfrm>
            <a:off x="2135520" y="50385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3258720" y="5105520"/>
            <a:ext cx="11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常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4650120" y="51055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7"/>
          <p:cNvSpPr/>
          <p:nvPr/>
        </p:nvSpPr>
        <p:spPr>
          <a:xfrm>
            <a:off x="2745000" y="51148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5562720" y="4500720"/>
            <a:ext cx="46080" cy="68580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533412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常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5029200" y="5105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133720" y="160956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</a:t>
            </a:r>
            <a:r>
              <a:rPr b="0" i="1" lang="en-US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c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=   7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133720" y="2219400"/>
            <a:ext cx="37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</a:t>
            </a:r>
            <a:r>
              <a:rPr b="0" i="1" lang="en-US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=  0.8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133720" y="29052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</a:t>
            </a:r>
            <a:r>
              <a:rPr b="0" i="1" lang="en-US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=  0.01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2148840" y="3591000"/>
            <a:ext cx="36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</a:t>
            </a:r>
            <a:r>
              <a:rPr b="0" i="1" lang="en-US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=    -5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圆角矩形 31"/>
          <p:cNvSpPr/>
          <p:nvPr/>
        </p:nvSpPr>
        <p:spPr>
          <a:xfrm>
            <a:off x="428760" y="85716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066680" y="1733400"/>
            <a:ext cx="693432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143000" y="1708200"/>
            <a:ext cx="675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地，形如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常数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≠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函数，叫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17440" y="400680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思考：一次函数与正比例函数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138320" y="5632560"/>
            <a:ext cx="73152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正比例函数是一种特殊的一次函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138320" y="44434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≠0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此时该一次函数是正比例函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3276720" y="6078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187280" y="13050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函数中哪些是一次函数，哪些又是正比例函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3" descr=""/>
          <p:cNvPicPr/>
          <p:nvPr/>
        </p:nvPicPr>
        <p:blipFill>
          <a:blip r:embed="rId1"/>
          <a:stretch/>
        </p:blipFill>
        <p:spPr>
          <a:xfrm>
            <a:off x="1447920" y="2463840"/>
            <a:ext cx="1904760" cy="56520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4" descr=""/>
          <p:cNvPicPr/>
          <p:nvPr/>
        </p:nvPicPr>
        <p:blipFill>
          <a:blip r:embed="rId2"/>
          <a:stretch/>
        </p:blipFill>
        <p:spPr>
          <a:xfrm>
            <a:off x="4876920" y="2438280"/>
            <a:ext cx="2408040" cy="60984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5" descr=""/>
          <p:cNvPicPr/>
          <p:nvPr/>
        </p:nvPicPr>
        <p:blipFill>
          <a:blip r:embed="rId3"/>
          <a:stretch/>
        </p:blipFill>
        <p:spPr>
          <a:xfrm>
            <a:off x="1449360" y="3301920"/>
            <a:ext cx="1766880" cy="103356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6" descr=""/>
          <p:cNvPicPr/>
          <p:nvPr/>
        </p:nvPicPr>
        <p:blipFill>
          <a:blip r:embed="rId4"/>
          <a:stretch/>
        </p:blipFill>
        <p:spPr>
          <a:xfrm>
            <a:off x="4952880" y="3581280"/>
            <a:ext cx="2633760" cy="5335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1514520" y="4356000"/>
            <a:ext cx="75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、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是一次函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666800" y="510228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其中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又是正比例函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31"/>
          <p:cNvSpPr/>
          <p:nvPr/>
        </p:nvSpPr>
        <p:spPr>
          <a:xfrm>
            <a:off x="428760" y="714240"/>
            <a:ext cx="10872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44:21Z</dcterms:created>
  <dc:creator> </dc:creator>
  <dc:description> </dc:description>
  <dc:language>en-US</dc:language>
  <cp:lastModifiedBy>Administrator</cp:lastModifiedBy>
  <dcterms:modified xsi:type="dcterms:W3CDTF">2018-12-29T02:44:39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